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A5D-30E3-44F7-9899-60377B74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551-DC5F-4053-851C-B3D177B6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517-6617-42D1-B7D0-84C2C58A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492-1C4F-43D5-BEEF-E45E33DB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16E-1618-494B-BDA5-1337DDF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02E-4EB2-4FB6-8306-949CBCD8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DCB-97DE-46DA-9C55-16825138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384-404E-48D3-94FE-D2FA060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865-1BA5-439E-A9B7-9C742270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033-9481-4A55-B759-758482D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704-5C51-480B-A315-5C7782B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FF1-AB64-46E9-B524-82238CB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83E2-A830-4A73-8E2A-8763AA7196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ς ὁ βασιλευς Ἰσραηλ καταβατω νυν ἀπο του σταυρου, ἱνα ἰδωμεν και πιστευσω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λεγον∙ Οὐχ οὑτος ἐστιν Ἰησους ὁ υἱος Ἰωσηφ, οὑ ἡμεις οἰδαμεν τον πατερα και την μητε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νυν λεγει ὁτι Ἐκ του οὐρανου καταβεβη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Ἰησους εἰπεν αὐτοις∙ Οὐκ οἰδατε τί αἰτεισθε. δυνασθε πιειν το ποτηριον ὃ ἐγω πινω ἠ το βαπτισμα ὃ ἐγω βαπτιζομαι βαπτισθη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57120" y="1714680"/>
            <a:ext cx="77151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φ’ ἑαυτου λαλων ζητει την δοξαν την ἰδιαν∙ ὁ δε ζητων την δοξαν του πεμψαντος αὐτον οὑτος ἀληθης ἐστιν και ἀδικια ἐν αὐτῳ οὐκ ἐστ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τε ὁ Ἰησους εἰπεν τοις μαθηταις αὐτου∙ Εἰ τις θελει ὀπισω μου ἐλθειν, ἀρνησασθω ἑαυτον και ἀρατω τον σταυρον αὐτου και ἀπολουθειτω μ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Μαρια θεωρει δυο ἀγγελους ἐν λευκοις καθιζομενους, ἑνα προς τῃ κεφαλῃ και ἑνα προς τοις ποσιν, ὁπου ἐκειτο το σωμα του Ἰησο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1500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οντες δε φωνῃ μεγαλῃ εἰπαν∙ Ἀξιον ἐστιν το ἀρνιον καθημενον ἐπι τῳ θρονῳ ἐν δεξιᾳ του θεου λαβειν την δυναμιν και σοφιαν και τιμην και δοξ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μεν οὐν κυριος Ἰησους μετα το λαλησαι αὐτοις ἀνεβη εἰς τον οὐρανον και ἐκαθητο ἐκ δεξιω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sed are the pure in heart, because they will se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God was there with a view to healing the sick and cleansing those with unclean spir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working now in order to read the New Test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knowledge is growing with the result that we are able to learn from the writings: first, the gospel according to Mark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ρευθεντες δε μαθετε τί ἐστιν∙ Δει τον υἱον του ἀνθρωπου πολλα παθ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παλιν ἠρξατο διδασκειν παρα την θαλασσαν∙ και συναγεται προς αὐτον ὀχλος πολυς, ὡστε αὐτον εἰς πλοιον ἐμβαντα καθησθαι ἐν τῃ θαλασσῃ, και πας ὁ ὀχλος προς την θαλασσαν ἐπι της γης ἠ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υναμεις και σημεια ἐποιησεν δι’ αὐτου ὁ θεος ἐν μεσῳ ὑμων καθως αὐτοι οἰδα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1434960"/>
            <a:ext cx="8929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ριζ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rvester/reape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σθον λαμβανει και συναγει καρπον εἰς ζωην αἰωνιον, ἱνα ὁ σπειρων ὁμου χαιρῃ και ὁ θεριζ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σασθε το ἱματιον το καθαρον προς το δυνασθαι εἰναι μετα του βασιλεως και των φιλω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δε ἀρχιερεις και παντες οἱ λοιποι ἐζητουν κατα του Ἰησου μαρτυριαν εἰς το ἀποκτεινειν αὐτον, και οὐχ ηὑρισ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ν τῳ κατηγορεισθαι αὐτον ὑπο των ἀρχιερεων και πρεσβυτερων οὐδεν ἀπεκρινα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42920" y="638280"/>
            <a:ext cx="8858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Ἡρῳδης ἰδων τον Ἰησουν ἐχαρ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rreg. Aorist 3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sing. of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χαιρω], ἠν γαρ ἐξ ἱκανων χρονων θελων ἰδειν αὐτον δια το ἀκουειν περι αὐτου και ἠλπιζεν τι σημειον ἰδειν ὑπ’ αὐτου γινομε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t is necessary that servants of God be spiritual, worthy, and capable, free from impure desire, not new in the faith, and not unfaithfu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He is treating you unjustly with the result that you are not able to receive your w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do you rich not have homes for the purpose of eating and drinking 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strong, because they are free, are able to sit and eat with the unclean n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7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920" y="1176480"/>
            <a:ext cx="8786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6.9-13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ὕτως οὖν προσεύχεσθε ὑμεῖς∙ Πάτερ ἡμῶν ὁ ἐν τοῖς οὐρανοῖς, ἁγιασθήτω τὸ ὄνομά σου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λθέτω ἡ βασιλεία σου∙ γενηθήτω τὸ θέλημά σου, ὡς ἐν οὐρανᾠ καὶ ἐπὶ γῆς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ὸν ἄρτον ἡμῶν τὸν ἐπιούσιον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oday, for the coming d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ὸ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ive!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ῖν σήμερο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ἄφε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g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φιημι] ἡμῖν τὰ ὀφειλήματ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bts, from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φειλω] ἡμῶν, ὡς καὶ ἡμεῖς ἀφήκαμεν [ἀφιημι] τοῖς ὀφειλέτα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btor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ῶ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3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μὴ εἰσενέγκῃς [εἰσφερω = εἰς + φερω] ἡμᾶς εἰς πειρασμ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of test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ὰ ῥῦσαι ἡμᾶς ἀπὸ τοῦ πονηρ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18:09Z</dcterms:created>
  <dc:creator>Sarah</dc:creator>
  <dc:description/>
  <dc:language>en-US</dc:language>
  <cp:lastModifiedBy>Sarah</cp:lastModifiedBy>
  <dcterms:modified xsi:type="dcterms:W3CDTF">2009-03-02T20:22:01Z</dcterms:modified>
  <cp:revision>21</cp:revision>
  <dc:subject/>
  <dc:title>Slide 1</dc:title>
</cp:coreProperties>
</file>